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gif" ContentType="image/gi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B6E-2D8C-4BDA-9884-05D4E8E9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384-E682-4A2F-A13C-2D7F681E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221-1C96-4751-B002-4B6D655D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5AC-C14D-4CA4-A4DB-F8739412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EB65-051D-4376-9100-3002C869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0D4-2E99-462F-BEC0-92F30D0A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288D-6097-41BB-B17A-DBCF64B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D485-42DA-42F0-987C-E4264A23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0E37-5E5D-4698-8EB7-8AEBF04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7DD-541F-4B6F-86FA-F6DD982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76E6-8CEB-48D4-989D-FCF4DB9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5BA-24DA-4708-AD30-BEA66D96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0B8E-C5B7-4091-ACD6-12003610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257-FA1E-4F81-A532-6D90AB1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58A-FDBB-43DC-9B94-57E46D9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1D79-9B9F-4C91-988E-8FFB4CE5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807-4171-45B8-B08A-28D10081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351B-2D19-4447-96E7-392B40D9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F357-5611-4BA4-8166-E2675C3B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3031-E3D7-4998-BA3D-49F35F03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B7F7-B80E-4173-A61B-92F437E7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9735-1D5F-4A81-931E-18774252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C30-ABD5-47F6-8A18-970ACB3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B99D-E1BD-42FC-A96F-16ADE59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8767-5B24-4539-AD89-1B6C05F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CB59-4B5B-4E31-8EE4-70E5BFE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3D7B-D0FA-419F-8036-E872866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474F-DDC8-4294-B131-68AC543D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BCA7-5284-499B-85A1-04736302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6FC1-3D9D-4BAB-934B-05325DE2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3EE3-7954-4EF0-A96C-7C43DD83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B0EC-5DC2-4F29-8C27-DFD7FD97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C7A92-998C-424C-839A-730500C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E1C-442B-4703-97F3-87D66F1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3724-16A6-42D7-B7F9-A650B01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AA3A-8606-4341-8610-D701018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83A0-DF59-44A9-9402-B9EB4094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72BE-5523-452E-9610-57485D9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AE929-1D13-4984-9033-B4732CF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15C4-A88F-4824-BBF8-E301B28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2D70-3CDE-4AE3-8CA8-ECD7100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E52C-BB8A-4E34-80EF-D6D0DCA7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5F46-8BAF-4B67-9FF4-94D34719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F0E-52CA-4EAC-A180-BCE799BF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750-BAFE-4D19-AB51-F0379D5C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1AC-AC07-4A5D-939C-1685150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CA1-B694-4539-AB52-1A56030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5F5-7215-4F58-ADE0-A64825D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FD59-C125-4731-9A1A-90EA387E4573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1D0-8F01-46DD-A701-9D5C9AD29C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0E82-B979-4303-B498-07EE9F2EDD0C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8282-361E-4928-B2EE-CA82B0AEA0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2EB-3C47-4064-B85F-30AA8F671010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6450-DEC2-4EF7-AF4F-C5A4ED5DB1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B22-372B-490E-8B30-4CE56465B7A5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9BAC-B519-45DE-AC37-095BE88627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792000" y="285840"/>
            <a:ext cx="7712280" cy="2311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Program Files (x86)\Microsoft Office\MEDIA\CAGCAT10\j0300520.gif"/>
          <p:cNvPicPr/>
          <p:nvPr/>
        </p:nvPicPr>
        <p:blipFill>
          <a:blip r:embed="rId3"/>
          <a:stretch/>
        </p:blipFill>
        <p:spPr>
          <a:xfrm>
            <a:off x="3232080" y="4191120"/>
            <a:ext cx="2895840" cy="16761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3391920" y="289548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. Gregory M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What is E-rat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am designed in 1996 to overcome the “digital divid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gned to narrow Internet access gap between affluent and non-affluent school distri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s discounts for communications, network equipment, and cabling for qualified schools and school distri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burses $2-3 billion annu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Who manages the E-rate Program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deral Communications Commission (FC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s and Libraries Division (SL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s items eligible for E-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uters are not eligible, only infrastructure components such as routers and switc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Program Files (x86)\Microsoft Office\MEDIA\CAGCAT10\j0292020.wmf"/>
          <p:cNvPicPr/>
          <p:nvPr/>
        </p:nvPicPr>
        <p:blipFill>
          <a:blip r:embed="rId2"/>
          <a:stretch/>
        </p:blipFill>
        <p:spPr>
          <a:xfrm>
            <a:off x="3083040" y="4724280"/>
            <a:ext cx="17920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How does a school district qualify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an urban or rural school district with a majority of students qualified for the free and reduced lunch pro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Child Internet Protection Act (CIPA) compli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ility to contribute 10% of total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able of using information technology infrastructure by having computer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an approved technology 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training on the use of technolog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4617b"/>
                </a:solidFill>
                <a:latin typeface="Calibri"/>
              </a:rPr>
              <a:t>How has SAISD benefited from E-rate?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ived over $40 million since 1996 for the follow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speed wide area network for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port for telephone serv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reless infrastru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quipment to connect Internet and netwo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ntenance contract for network equi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Schools Re-cab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Future E-rate Proj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2520" y="236196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-cable middle and element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grade wireless network infrastructure for faster, more reliable conn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 voice over IP (VOIP) in each school to allow a phone in every classroom if nee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Program Files (x86)\Microsoft Office\MEDIA\CAGCAT10\j0285410.wmf"/>
          <p:cNvPicPr/>
          <p:nvPr/>
        </p:nvPicPr>
        <p:blipFill>
          <a:blip r:embed="rId2"/>
          <a:stretch/>
        </p:blipFill>
        <p:spPr>
          <a:xfrm>
            <a:off x="2971800" y="4724280"/>
            <a:ext cx="243828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THE EN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Program Files (x86)\Microsoft Office\MEDIA\CAGCAT10\j0234657.wmf"/>
          <p:cNvPicPr/>
          <p:nvPr/>
        </p:nvPicPr>
        <p:blipFill>
          <a:blip r:embed="rId2"/>
          <a:stretch/>
        </p:blipFill>
        <p:spPr>
          <a:xfrm>
            <a:off x="1523880" y="3124080"/>
            <a:ext cx="5486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19Z</dcterms:created>
  <dc:creator>gregory lee</dc:creator>
  <dc:description/>
  <dc:language>en-US</dc:language>
  <cp:lastModifiedBy>Mills, Tonya</cp:lastModifiedBy>
  <dcterms:modified xsi:type="dcterms:W3CDTF">2010-11-08T17:54:32Z</dcterms:modified>
  <cp:revision>30</cp:revision>
  <dc:subject/>
  <dc:title>E-Rate  (Education Rate)</dc:title>
</cp:coreProperties>
</file>